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8B6-F520-4347-A832-963D0095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7E6-C9CF-4439-ACD3-776D7F8B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5B2-B054-467B-B44E-7B99219A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160-9CEE-4F29-8B0B-D61B91AC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87B5-FEE7-420F-96BA-A01E37EE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214E-FA28-47E1-8177-E8F9CD1B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37D7-BA95-4872-9C56-CEE1723C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170A-032E-48BF-83F7-A90FB227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6F5D-CC80-49A5-B5C7-FF7D0A7E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894D-F0AC-4F30-9CE7-04A7B345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09AE-0578-4C04-91CC-99084305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760-37B5-4514-A271-89CD6A43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7C0D-1AC9-425B-8AE5-221D92DF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61C3-D1A6-4A57-ADE6-E7239E85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40D2-C78F-4C58-BD49-168399EF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9488-0356-4198-9B41-C0AA557C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ABE4-7F2B-4045-B8B5-A8B5323C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D30-9388-42E6-9EA4-10F71DDF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FA4-1EC5-41F5-8D54-C6DC074E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CE1-84F9-4A68-A6D1-90E821A1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8DD-6253-4AA6-874C-461C83D9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C4B-793D-4831-841C-E3AEC090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E1C-76DC-451A-8A6D-FA2F28E2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B5F-55A7-4E26-8BC2-8F8B7B25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ba0023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ba0023"/>
                </a:gs>
                <a:gs pos="50000">
                  <a:srgbClr val="cc3300"/>
                </a:gs>
                <a:gs pos="100000">
                  <a:srgbClr val="ba00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ba0023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ba0023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cc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cc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38BC-2322-41C3-B99E-48BAF96E5F6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ba0023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ba0023"/>
                </a:gs>
                <a:gs pos="50000">
                  <a:srgbClr val="cc3300"/>
                </a:gs>
                <a:gs pos="100000">
                  <a:srgbClr val="ba00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ba0023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ba0023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cc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cc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9FCC-C4DF-4403-B5F8-39148E761A3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foarica.cl/1ta/Incas_Pukara_Guaman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33"/>
                </a:solidFill>
                <a:latin typeface="Snap ITC"/>
              </a:rPr>
              <a:t>CULTURAS PREHISPÁNICAS DEL PERÚ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9933"/>
                </a:solidFill>
                <a:latin typeface="Snap ITC"/>
              </a:rPr>
              <a:t>CHANKA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99" name="Picture 7" descr="AMAUTA"/>
          <p:cNvPicPr/>
          <p:nvPr/>
        </p:nvPicPr>
        <p:blipFill>
          <a:blip r:embed="rId1"/>
          <a:stretch/>
        </p:blipFill>
        <p:spPr>
          <a:xfrm>
            <a:off x="826920" y="3645000"/>
            <a:ext cx="190512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33"/>
                </a:solidFill>
                <a:latin typeface="Comic Sans MS"/>
              </a:rPr>
              <a:t>Aspecto Geográfico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entro: Apurímac (Andahuaylas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e extendieron a Ayacucho y Huancavel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(Sierra Su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SonOk"/>
          <p:cNvPicPr/>
          <p:nvPr/>
        </p:nvPicPr>
        <p:blipFill>
          <a:blip r:embed="rId1"/>
          <a:stretch/>
        </p:blipFill>
        <p:spPr>
          <a:xfrm>
            <a:off x="1547640" y="4724280"/>
            <a:ext cx="2513160" cy="1463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karte13-Peru-chanka-kultur-ESP"/>
          <p:cNvPicPr/>
          <p:nvPr/>
        </p:nvPicPr>
        <p:blipFill>
          <a:blip r:embed="rId2"/>
          <a:stretch/>
        </p:blipFill>
        <p:spPr>
          <a:xfrm>
            <a:off x="1441440" y="1413000"/>
            <a:ext cx="27702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33"/>
                </a:solidFill>
                <a:latin typeface="Comic Sans MS"/>
              </a:rPr>
              <a:t>Aspecto Histórico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Se desarrollaron en el periodo llamado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INTERMEDIO TARDÍO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, luego de la desaparición del Imperio Wari u Horizonte Medi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xistieron al mismo tiempo que: Chincha, Cajamarca, Chachapoyas, Reinos Aymaras, Chimú y Reino del Cuz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7" descr="Mapa"/>
          <p:cNvPicPr/>
          <p:nvPr/>
        </p:nvPicPr>
        <p:blipFill>
          <a:blip r:embed="rId1"/>
          <a:stretch/>
        </p:blipFill>
        <p:spPr>
          <a:xfrm>
            <a:off x="4572000" y="1484280"/>
            <a:ext cx="385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33"/>
                </a:solidFill>
                <a:latin typeface="Comic Sans MS"/>
              </a:rPr>
              <a:t>Aspecto Socio-político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Confederación o alianza de diversas tribus guerreras (como los Wankas, Pokras y Chank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Jefes =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sinc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8" descr="ejercito5"/>
          <p:cNvPicPr/>
          <p:nvPr/>
        </p:nvPicPr>
        <p:blipFill>
          <a:blip r:embed="rId1"/>
          <a:stretch/>
        </p:blipFill>
        <p:spPr>
          <a:xfrm>
            <a:off x="4653000" y="1844640"/>
            <a:ext cx="380988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33"/>
                </a:solidFill>
                <a:latin typeface="Comic Sans MS"/>
              </a:rPr>
              <a:t>Guerreros Chanka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Feroces guerreros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, eran muy temidos por sus costumbres sanguinarias (como hacer tambores con la piel de sus enemigos o beber chicha en el cráneo del jefe riva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9" descr="1242693994_chanka"/>
          <p:cNvPicPr/>
          <p:nvPr/>
        </p:nvPicPr>
        <p:blipFill>
          <a:blip r:embed="rId1"/>
          <a:stretch/>
        </p:blipFill>
        <p:spPr>
          <a:xfrm>
            <a:off x="395280" y="2924280"/>
            <a:ext cx="3394080" cy="3632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runa"/>
          <p:cNvPicPr/>
          <p:nvPr/>
        </p:nvPicPr>
        <p:blipFill>
          <a:blip r:embed="rId2"/>
          <a:stretch/>
        </p:blipFill>
        <p:spPr>
          <a:xfrm>
            <a:off x="2552760" y="1484280"/>
            <a:ext cx="223524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33"/>
                </a:solidFill>
                <a:latin typeface="Comic Sans MS"/>
              </a:rPr>
              <a:t>Guerra Chankas vs. Inka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ntraron en conflicto con la expansión de los Inkas del Cuzco, ya que ambos pueblos querían expandirse y necesitaban eliminar a sus rivales. Por eso, se produjo una guerra decisiva entre amb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8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62360" y="3933720"/>
            <a:ext cx="224964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CHANCAS"/>
          <p:cNvPicPr/>
          <p:nvPr/>
        </p:nvPicPr>
        <p:blipFill>
          <a:blip r:embed="rId3"/>
          <a:stretch/>
        </p:blipFill>
        <p:spPr>
          <a:xfrm>
            <a:off x="539640" y="3860640"/>
            <a:ext cx="3197160" cy="26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INCAS"/>
          <p:cNvPicPr/>
          <p:nvPr/>
        </p:nvPicPr>
        <p:blipFill>
          <a:blip r:embed="rId4"/>
          <a:stretch/>
        </p:blipFill>
        <p:spPr>
          <a:xfrm>
            <a:off x="5940360" y="3933720"/>
            <a:ext cx="244800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33"/>
                </a:solidFill>
                <a:latin typeface="Comic Sans MS"/>
              </a:rPr>
              <a:t>Resultado de la guerra vs. Chankas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uando los Chankas habían sitiado el Cuzco y estaban a punto de conquistarlo, surgió la figura de líder de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PACHACÚTEC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, quien logró derrotar a los Chankas (leyenda de Pururauc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inti_raymi_incas"/>
          <p:cNvPicPr/>
          <p:nvPr/>
        </p:nvPicPr>
        <p:blipFill>
          <a:blip r:embed="rId1"/>
          <a:stretch/>
        </p:blipFill>
        <p:spPr>
          <a:xfrm>
            <a:off x="395280" y="1125360"/>
            <a:ext cx="2397240" cy="338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guerreros"/>
          <p:cNvPicPr/>
          <p:nvPr/>
        </p:nvPicPr>
        <p:blipFill>
          <a:blip r:embed="rId2"/>
          <a:stretch/>
        </p:blipFill>
        <p:spPr>
          <a:xfrm>
            <a:off x="2771640" y="3213000"/>
            <a:ext cx="2114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9933"/>
                </a:solidFill>
                <a:latin typeface="Comic Sans MS"/>
              </a:rPr>
              <a:t>Consecuencias de la guerra vs. Chankas</a:t>
            </a:r>
            <a:endParaRPr b="0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ibres de la amenaza chanka, los Inkas pudieron comenzar su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pansión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onquistando otros territorios andinos. Así se pudo formar el Tawantinsuyo o Imperio In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jlm3a"/>
          <p:cNvPicPr/>
          <p:nvPr/>
        </p:nvPicPr>
        <p:blipFill>
          <a:blip r:embed="rId1"/>
          <a:stretch/>
        </p:blipFill>
        <p:spPr>
          <a:xfrm>
            <a:off x="3635280" y="3068640"/>
            <a:ext cx="2640240" cy="14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INCAS"/>
          <p:cNvPicPr/>
          <p:nvPr/>
        </p:nvPicPr>
        <p:blipFill>
          <a:blip r:embed="rId2"/>
          <a:stretch/>
        </p:blipFill>
        <p:spPr>
          <a:xfrm>
            <a:off x="6300720" y="981000"/>
            <a:ext cx="2513160" cy="2332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jlm13"/>
          <p:cNvPicPr/>
          <p:nvPr/>
        </p:nvPicPr>
        <p:blipFill>
          <a:blip r:embed="rId3"/>
          <a:stretch/>
        </p:blipFill>
        <p:spPr>
          <a:xfrm>
            <a:off x="250920" y="1557360"/>
            <a:ext cx="3960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2:38:27Z</dcterms:created>
  <dc:creator>Beautiful Lia</dc:creator>
  <dc:description/>
  <dc:language>en-US</dc:language>
  <cp:lastModifiedBy>Computo</cp:lastModifiedBy>
  <dcterms:modified xsi:type="dcterms:W3CDTF">2009-11-16T22:18:59Z</dcterms:modified>
  <cp:revision>20</cp:revision>
  <dc:subject/>
  <dc:title>CULTURAS PREHISPÁNICAS DEL PERÚ  CHANCAS</dc:title>
</cp:coreProperties>
</file>